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A91-A0C6-4482-98B3-44875FE8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9F1-CB81-40B1-98EF-C32BDAE2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20D1B-87A9-4BF5-81A1-2C5BD1B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59A8C-BFEB-475F-828B-F7F83EBD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6E349-6CE8-4586-9F5C-2D760589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07CCC-1EE3-489A-909A-490789B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3B522-3E3D-4FE3-83AD-47AC5A3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C7FD4-6F33-44DB-A3B0-843C0C8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5D96-5C87-4DE2-ABA1-B6149D9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F77EE-50CC-4A10-ABEB-D5A17754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4A02E-CF6B-4507-AE1D-17FDF9CC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F31C0-417B-4ADE-9ED7-247C14D0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E9D-7E13-4E6D-B7D0-D071BE70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BF766-127B-4205-A329-370A2AD1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C136E-BC5B-46EB-AF18-6B37206A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6AAF5-51B8-4783-92AA-6C8A97AD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D1534-3662-4167-9A41-FFB60F35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A8097-D13F-4C65-97D2-DD83050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03DC1-9E95-4D9A-8827-DBBC816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07F89-C758-4BEC-9D78-3AD1BE80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A6260-CE17-4849-A526-7CB0BD88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1E066-88B3-4F02-815B-0F428351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1E5D8-9934-4EF4-9CD2-A10EAF63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0EB-2B1A-4885-B5BF-43C59769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8AE13-E2CC-48AA-A077-4EE65C08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D2CF-0A46-45E7-9D5B-C57BD33E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29E0E-4858-4888-8650-4B37B38C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C3A9E-7FE8-4A02-B9B1-D3F1DBAC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2951A-F667-4514-A635-6181521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DAA73-6702-40E3-81AB-8709A81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4EBCA-D82F-4EC0-9645-2E946785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01CDA-08B9-470C-843A-DE366E1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FA43-5155-4CE0-9452-A13A003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07FB5-FDCB-45A4-8FA0-CC9DE9EB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423-23E8-4B43-B271-F87B98A3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DCE4C-F9D6-42D1-A730-87D1A2B1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4F628-C14D-4C65-BC38-3049CAB8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8A3A5-DC25-4404-8532-8E6521C4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E9427-8AAC-4271-90E2-CE9AFA46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22950-9B81-4AF8-9EAC-52E0B6D3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62315-8104-44D2-A878-476421D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F8EE0-EDF2-4B4D-B131-A6EA174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0FB5-FE21-45C7-B49C-1AE31AAD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647DD-E34B-4464-88A7-F07840F9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4EB2B-3705-485D-86AF-1B408D6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F27C-59BE-4F2F-908A-493CEBE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C2365-8F1D-412B-A374-18BB0F1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21A45-D953-46E1-B4EE-0687908F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E57B8-86F1-44EA-A349-3F635E2F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DDAF7-3C5E-45A0-88EE-FEB63341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6EE97-D937-4D19-AE9F-E1E5317B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B2B0B-E1DB-4994-94CD-4BF145A6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14B2A-B14C-4334-B37C-8625E5A5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C82B0-E2CC-47C9-A34B-5A58C8A4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44D9B-0698-4AA2-A208-D8ABC8E1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7D44A-AAB6-4620-AF31-8800B59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C490-1E32-4C12-AC87-C4B9058A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86B23-578A-4B63-83F2-F01C57DF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08C34-9B17-4AF3-AB36-BC8A81A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DF954-81CE-4846-B274-DDA46DD8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BC625-B3CB-44B2-A4B0-2CE0AB2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5FC32-6819-412A-9F3C-7808C46A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EAC4A-F409-4DA2-8B89-6C58D1C5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74CB8-D206-4448-BA75-76A6185E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24478-B9AA-4D85-B5B2-CC1A2B4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2EC68-F8A5-44D9-9514-B78AE23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DB973-C6CA-46B4-9A56-5E9659C9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BF5-22F6-44E2-AB50-84B8E36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FCA48-7455-49AF-AAB3-9EC41CD2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62118-B9AF-46BB-8F83-8163FED8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A4C40-692F-45FA-9A25-D791E402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931A1-F8CF-4574-A692-B5C6BF3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C96F3-FBC3-41DF-A2A8-C1CCB4A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B2843-7D36-4941-8AAC-BE60D4D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5C738-E969-40DE-B6D8-FB7A07F7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C84BD-D431-49F0-AFA7-FB0221AA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C59F6-2F1B-427B-8EF3-E94515E5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90ECE-7579-4E1F-8167-2937BDED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A2D0-F0C3-4C3C-B4DF-C27DF17B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16FBA-9F52-4DC4-9E5C-58CCC61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46392-2738-40F9-A389-6E207B5C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1DBBB-D267-45DF-A47F-79C80302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9F301-FA28-4B80-B15B-C72227D3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1102B-BD54-4472-8CFF-BD14238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EF26C-9E90-42F5-8E88-96CE316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8B84F-2E1D-431D-A39D-3A188A8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C3721-351C-4CE2-BD4A-9BBB40C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845D9-0E61-48E0-B078-402896A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FF0BB-79DC-41F7-8643-FD5D9A2B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3A33-C762-4786-8856-10940B92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BFBA5-1F3A-4CD5-B936-E4B36228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7B63-C4B6-409F-A5C5-988CA49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EB5-E8C5-4DC7-A1B3-999345B3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C5F1-778C-4FEC-BF86-1386063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43FF-365C-4AE6-837A-5077F6CD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6878-3436-4473-BD19-ADB5E315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A1AD-C777-468D-AFC0-55C69DA9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DE7E-55C6-4850-96EF-4427CD31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9565-4DE4-4433-A429-F39BCFD4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2D1C-B593-426F-942F-8C73B460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0165-D153-4329-B2BB-5FCD2D2F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EB6B-D822-45DA-B86C-72713615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3DBD-5A59-473B-834B-A6FF4BDC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E77-68B8-4B24-9B4C-1BF029F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E4EA-04FA-4014-BAD1-D6C11E1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916C-9C4D-4060-BDC9-DD137EA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D57E-93E9-43EE-8534-A54C6F7D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9971-71B9-4140-8F19-75BA98D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F5F6-B719-48FD-BAC8-378F7FA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A6CC-6697-4068-ABCC-46A4E341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CCB2-0661-4DA3-AE1B-6E91EDB0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E0EF-C77D-41BC-9140-4E0D6F4A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9DA5D-E178-4566-8380-4C8E9F34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63AD-0BDE-4A19-8F9F-EC317E24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25A-9491-46B5-8A3F-FAD79827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0F6E8-943D-485B-B6C0-B3F33BE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0D61-9DE2-42D3-BE26-122B50F1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92E5-E7D9-4A82-A301-E242B24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EEBC-A7A9-442F-8FD8-3E7C5C2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108C-C701-4C33-9969-A358DEE6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38D2-22DC-4277-843B-3080466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4049-7F55-48E3-AC37-2848BCFC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0F8B-095D-44EF-9B12-4CD804A7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AA11-ED49-48C9-A037-7F751C2B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31D6-C522-49AA-B37D-6F5F97C4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645-F735-4DC5-A286-E56FC96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2A6D6-EC95-4C78-9A5D-9A992A76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2FB3-ADB3-4295-B5A9-41C43659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8667-DD6D-4374-A71B-B7E4724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4360-79A2-4F4A-9737-6310C5E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8FF2F-EE61-49EC-B829-63037CF9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E800-AD67-4225-8199-5A27E49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8634-AA4A-4967-9900-2BC07BA9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9FC1-90DA-4A9C-926C-5D9F4C02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4758-97A1-4BB8-87A8-3E2112A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3F757-B185-435B-B9A8-B31B20F1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F7F-DA28-4291-8C0C-85F78D6F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1D77-2AEE-4299-97DD-39F99917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EFD7E-3B61-479C-9A28-07EEBE47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14A2-ECEB-4F54-9463-C666DA7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ADA78-FAA5-45AD-8DEC-D128A832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A703-845F-4215-94AD-A9C91823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AA09-7A6A-466C-A573-7BAA9089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2996-AA2C-40E9-9019-834156D0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A9B65-ACE1-4E79-BD49-E3967096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7CED-6309-4869-83A3-1A6BF687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8955C-1DF1-406D-947C-401469F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366-C856-4873-8026-54BD515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77FF-0D77-4080-BD9C-2FF177F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8E28E-C797-4F3E-9920-CABF0ADA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19022-0F6A-4C31-A267-C6623FE5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36B4-3146-4928-9E59-C8E4D877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38C7F-F13D-46F2-9981-743055F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B4DF-681A-453D-BEDF-D3DC940F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F476C-93F0-4573-B99D-431133E5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78A9-6B05-41C6-8AB0-1CFC09E5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D176F-185C-431A-8540-6416D19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FFA5C-96B4-4320-99C0-BC45AEC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472-0933-471F-8300-563F0662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C018-FEC2-4686-8685-C664A079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C8A5-98C6-4267-9D53-DBB4EAE4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A4A75-BA8A-49DA-AF32-541E8C6F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D24D5-4937-4C87-A897-1A8C7442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4C4B1-969D-44C2-A1FF-05A96757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862FA-6620-47D4-A79A-357F7A1A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301F-0557-457B-9985-5DDD3328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75EAD-6743-4A96-91D5-2DEF8FC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2DBED-C937-49EA-8CEC-01D0909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AECC9-9311-4889-AA67-775D5345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FEE-1052-40F9-B468-86CA4CC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9572-6C02-4489-90B4-DDAD0B52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E0493-9096-49A4-98F3-97D51EE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76A41-86A1-4D1C-8FFE-42B39C28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7FB62-4B7C-4990-B0B0-6EC9307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48B7A-2B45-4FA3-8B92-40E1D51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348A-2210-471B-B3A6-489BD694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24BCE-EAEF-419A-892C-701DDCB5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D1EA2-A1FC-4223-A56A-A9D4B5DD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BD11F-555D-4382-A30E-29CFB5F0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81ADF-22A2-4ABE-B8C2-0BBC8328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4556-A58B-40E0-A382-1A669F8848E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2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2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31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32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34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65C8-3B03-4130-89AB-BCE49C6235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7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78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79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81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8F0B-9DA1-453A-8ED3-78BDCC3A3C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DA14-06A0-4659-9E17-1F0F58061A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0C08-1BE5-4901-B42C-EC97CEFACF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657-0452-4747-B39E-E941311513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64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5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552-DB38-4718-B005-5E4DBA3D4D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700-DEAD-4305-854D-F15361B686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CE1E-0B5C-4CB1-9BA7-35F03256AC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3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A8C0-57C7-4CBB-82D4-7BCE1814AE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6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7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8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9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C96C-216C-413D-BC4C-5A88D1018D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34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B1B6-5281-4216-80A9-F4363E57A6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1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2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6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698C-8C9F-4CAD-92F2-7BF27E3ADC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29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3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F27E-BD08-4DEC-905A-530A5D4890B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77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7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7A52-A619-4558-9D0B-C990B3AB33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одецкая роспись. Рисование кистью. Роспись прялки.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371600" y="3555720"/>
            <a:ext cx="7448400" cy="18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Выполнила Ванеева Юл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Студентка 642 групп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D:\документы\изо, труд\для конспекта городец\ГОРОДЕЦ\7960541.jpg"/>
          <p:cNvPicPr/>
          <p:nvPr/>
        </p:nvPicPr>
        <p:blipFill>
          <a:blip r:embed="rId1"/>
          <a:stretch/>
        </p:blipFill>
        <p:spPr>
          <a:xfrm>
            <a:off x="684360" y="1052640"/>
            <a:ext cx="7738920" cy="5306760"/>
          </a:xfrm>
          <a:prstGeom prst="rect">
            <a:avLst/>
          </a:prstGeom>
          <a:ln w="0">
            <a:noFill/>
          </a:ln>
        </p:spPr>
      </p:pic>
      <p:sp>
        <p:nvSpPr>
          <p:cNvPr id="727" name="TextBox 1"/>
          <p:cNvSpPr/>
          <p:nvPr/>
        </p:nvSpPr>
        <p:spPr>
          <a:xfrm>
            <a:off x="104292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libri"/>
              </a:rPr>
              <a:t>Разживка 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8" name="Управляющая кнопка: назад 3"/>
          <p:cNvSpPr/>
          <p:nvPr/>
        </p:nvSpPr>
        <p:spPr>
          <a:xfrm>
            <a:off x="250920" y="618012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Ярусная 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2" descr="D:\документы\изо, труд\для конспекта городец\ГОРОДЕЦ\photo95.jpg"/>
          <p:cNvPicPr/>
          <p:nvPr/>
        </p:nvPicPr>
        <p:blipFill>
          <a:blip r:embed="rId1"/>
          <a:stretch/>
        </p:blipFill>
        <p:spPr>
          <a:xfrm>
            <a:off x="4716360" y="1341360"/>
            <a:ext cx="3745080" cy="5085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D:\документы\изо, труд\для конспекта городец\ГОРОДЕЦ\normal_Петухи Городецкая роспись Мелентьева Оля 18 лет.jpg"/>
          <p:cNvPicPr/>
          <p:nvPr/>
        </p:nvPicPr>
        <p:blipFill>
          <a:blip r:embed="rId2"/>
          <a:stretch/>
        </p:blipFill>
        <p:spPr>
          <a:xfrm>
            <a:off x="684360" y="1341360"/>
            <a:ext cx="3457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D:\документы\изо, труд\для конспекта городец\ГОРОДЕЦ\9985916.jpg"/>
          <p:cNvPicPr/>
          <p:nvPr/>
        </p:nvPicPr>
        <p:blipFill>
          <a:blip r:embed="rId1"/>
          <a:stretch/>
        </p:blipFill>
        <p:spPr>
          <a:xfrm>
            <a:off x="4722840" y="947880"/>
            <a:ext cx="3816360" cy="5398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3" descr=""/>
          <p:cNvPicPr/>
          <p:nvPr/>
        </p:nvPicPr>
        <p:blipFill>
          <a:blip r:embed="rId2"/>
          <a:stretch/>
        </p:blipFill>
        <p:spPr>
          <a:xfrm>
            <a:off x="684360" y="947880"/>
            <a:ext cx="3851280" cy="5425920"/>
          </a:xfrm>
          <a:prstGeom prst="rect">
            <a:avLst/>
          </a:prstGeom>
          <a:ln w="0">
            <a:noFill/>
          </a:ln>
        </p:spPr>
      </p:pic>
      <p:sp>
        <p:nvSpPr>
          <p:cNvPr id="734" name="TextBox 2"/>
          <p:cNvSpPr/>
          <p:nvPr/>
        </p:nvSpPr>
        <p:spPr>
          <a:xfrm>
            <a:off x="1312920" y="33336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libri"/>
              </a:rPr>
              <a:t>Оттеневка 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5" name="Управляющая кнопка: назад 5"/>
          <p:cNvSpPr/>
          <p:nvPr/>
        </p:nvSpPr>
        <p:spPr>
          <a:xfrm>
            <a:off x="250920" y="62690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Детские творческие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7" name="Picture 2" descr="D:\документы\изо, труд\для конспекта городец\ГОРОДЕЦ\DSCN0383_0.JPG"/>
          <p:cNvPicPr/>
          <p:nvPr/>
        </p:nvPicPr>
        <p:blipFill>
          <a:blip r:embed="rId1"/>
          <a:stretch/>
        </p:blipFill>
        <p:spPr>
          <a:xfrm>
            <a:off x="378000" y="1316160"/>
            <a:ext cx="4479840" cy="54259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D:\документы\изо, труд\для конспекта городец\ГОРОДЕЦ\580800446.jpg"/>
          <p:cNvPicPr/>
          <p:nvPr/>
        </p:nvPicPr>
        <p:blipFill>
          <a:blip r:embed="rId2"/>
          <a:stretch/>
        </p:blipFill>
        <p:spPr>
          <a:xfrm>
            <a:off x="4816440" y="1305000"/>
            <a:ext cx="4132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871560" y="2276280"/>
            <a:ext cx="7408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творческий характер изображенного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соответствие изображенного теме урок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правильное изображение элементов городецкой росписи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правильное составление композици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Критерии оцени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Задание: создать композицию из элементов городецкой росписи для украшения прялк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2700360" y="2146320"/>
            <a:ext cx="3524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849240" y="259920"/>
            <a:ext cx="7408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andara"/>
              </a:rPr>
              <a:t>Элементы городецкой росписи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585720" y="3284640"/>
            <a:ext cx="2043360" cy="28652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" descr="D:\документы\изо, труд\для конспекта городец\ГОРОДЕЦ\broidery_l0002.jpg"/>
          <p:cNvPicPr/>
          <p:nvPr/>
        </p:nvPicPr>
        <p:blipFill>
          <a:blip r:embed="rId2"/>
          <a:stretch/>
        </p:blipFill>
        <p:spPr>
          <a:xfrm>
            <a:off x="6203880" y="3284640"/>
            <a:ext cx="2617920" cy="2952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" descr="D:\документы\изо, труд\для конспекта городец\ГОРОДЕЦ\post-926589-1271850518.jpg"/>
          <p:cNvPicPr/>
          <p:nvPr/>
        </p:nvPicPr>
        <p:blipFill>
          <a:blip r:embed="rId3"/>
          <a:stretch/>
        </p:blipFill>
        <p:spPr>
          <a:xfrm>
            <a:off x="3257640" y="3284640"/>
            <a:ext cx="2560680" cy="3008160"/>
          </a:xfrm>
          <a:prstGeom prst="rect">
            <a:avLst/>
          </a:prstGeom>
          <a:ln w="0">
            <a:noFill/>
          </a:ln>
        </p:spPr>
      </p:pic>
      <p:sp>
        <p:nvSpPr>
          <p:cNvPr id="700" name="TextBox 3"/>
          <p:cNvSpPr/>
          <p:nvPr/>
        </p:nvSpPr>
        <p:spPr>
          <a:xfrm>
            <a:off x="382680" y="2492280"/>
            <a:ext cx="2449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4" action="ppaction://hlinksldjump"/>
              </a:rPr>
              <a:t>Петух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2832120" y="2492280"/>
            <a:ext cx="358632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5" action="ppaction://hlinksldjump"/>
              </a:rPr>
              <a:t>Розан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6" action="ppaction://hlinksldjump"/>
              </a:rPr>
              <a:t> 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7" action="ppaction://hlinksldjump"/>
              </a:rPr>
              <a:t>и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8" action="ppaction://hlinksldjump"/>
              </a:rPr>
              <a:t> 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9" action="ppaction://hlinksldjump"/>
              </a:rPr>
              <a:t>купавк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6348240" y="2492280"/>
            <a:ext cx="23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fefd"/>
                </a:solidFill>
                <a:latin typeface="Candara"/>
              </a:rPr>
              <a:t>Конь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Донца городецких пряло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04" name="Picture 3" descr="D:\документы\изо, труд\для конспекта городец\ГОРОДЕЦ\Прялки - 51 городецкое донце.jpg"/>
          <p:cNvPicPr/>
          <p:nvPr/>
        </p:nvPicPr>
        <p:blipFill>
          <a:blip r:embed="rId1"/>
          <a:stretch/>
        </p:blipFill>
        <p:spPr>
          <a:xfrm>
            <a:off x="3492360" y="1657440"/>
            <a:ext cx="2414880" cy="49449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4" descr="D:\документы\изо, труд\для конспекта городец\ГОРОДЕЦ\12.jpg"/>
          <p:cNvPicPr/>
          <p:nvPr/>
        </p:nvPicPr>
        <p:blipFill>
          <a:blip r:embed="rId2"/>
          <a:stretch/>
        </p:blipFill>
        <p:spPr>
          <a:xfrm>
            <a:off x="609480" y="1657440"/>
            <a:ext cx="2316240" cy="49449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5" descr="D:\документы\изо, труд\для конспекта городец\ГОРОДЕЦ\14.jpg"/>
          <p:cNvPicPr/>
          <p:nvPr/>
        </p:nvPicPr>
        <p:blipFill>
          <a:blip r:embed="rId3"/>
          <a:stretch/>
        </p:blipFill>
        <p:spPr>
          <a:xfrm>
            <a:off x="6297480" y="1657440"/>
            <a:ext cx="22734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1"/>
          <p:cNvSpPr/>
          <p:nvPr/>
        </p:nvSpPr>
        <p:spPr>
          <a:xfrm>
            <a:off x="900000" y="47628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анно посвящено преемственности живописного мастерства городецких донец, сохранению традиций городецкой росписи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ейшие городецкие мастер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08" name="Picture 2" descr=""/>
          <p:cNvPicPr/>
          <p:nvPr/>
        </p:nvPicPr>
        <p:blipFill>
          <a:blip r:embed="rId1"/>
          <a:stretch/>
        </p:blipFill>
        <p:spPr>
          <a:xfrm>
            <a:off x="792000" y="2724120"/>
            <a:ext cx="7775640" cy="3382920"/>
          </a:xfrm>
          <a:prstGeom prst="rect">
            <a:avLst/>
          </a:prstGeom>
          <a:ln w="0">
            <a:noFill/>
          </a:ln>
        </p:spPr>
      </p:pic>
      <p:sp>
        <p:nvSpPr>
          <p:cNvPr id="709" name="TextBox 2"/>
          <p:cNvSpPr/>
          <p:nvPr/>
        </p:nvSpPr>
        <p:spPr>
          <a:xfrm>
            <a:off x="673200" y="61070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.А. Мазин       Ф.С. Краснояров   И.К. Лебедев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Особенности городецкой роспис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3928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Рисунок исполняется кисть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Цветовые пятна равномерно раскладываются на лист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Композиция статичная. Лица героев обращены к зрител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Разживка черным цветом и белильная объединяет различные цвета раскладк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Ярусная композиция помогает передать различные картины мира. В резном орнаменте прялки – картины мироздания, в живописном решении декора прялки – сцены жизни, прославляющие праздничные событ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2084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Этапы изображения роза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13" name="Picture 2" descr="D:\документы\изо, труд\для конспекта городец\ГОРОДЕЦ\gorodec-new.jpg"/>
          <p:cNvPicPr/>
          <p:nvPr/>
        </p:nvPicPr>
        <p:blipFill>
          <a:blip r:embed="rId1"/>
          <a:stretch/>
        </p:blipFill>
        <p:spPr>
          <a:xfrm>
            <a:off x="2195640" y="1268280"/>
            <a:ext cx="4680000" cy="5419800"/>
          </a:xfrm>
          <a:prstGeom prst="rect">
            <a:avLst/>
          </a:prstGeom>
          <a:ln w="0">
            <a:noFill/>
          </a:ln>
        </p:spPr>
      </p:pic>
      <p:sp>
        <p:nvSpPr>
          <p:cNvPr id="714" name="Управляющая кнопка: назад 5"/>
          <p:cNvSpPr/>
          <p:nvPr/>
        </p:nvSpPr>
        <p:spPr>
          <a:xfrm>
            <a:off x="1258920" y="640080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3132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Этапы изображения петух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716" name="Picture 2" descr="D:\документы\изо, труд\для конспекта городец\ГОРОДЕЦ\medium_2.jpg"/>
          <p:cNvPicPr/>
          <p:nvPr/>
        </p:nvPicPr>
        <p:blipFill>
          <a:blip r:embed="rId2"/>
          <a:stretch/>
        </p:blipFill>
        <p:spPr>
          <a:xfrm>
            <a:off x="1332000" y="925560"/>
            <a:ext cx="7018200" cy="5322960"/>
          </a:xfrm>
          <a:prstGeom prst="rect">
            <a:avLst/>
          </a:prstGeom>
          <a:ln w="0">
            <a:noFill/>
          </a:ln>
        </p:spPr>
      </p:pic>
      <p:sp>
        <p:nvSpPr>
          <p:cNvPr id="717" name="Управляющая кнопка: назад 3"/>
          <p:cNvSpPr/>
          <p:nvPr/>
        </p:nvSpPr>
        <p:spPr>
          <a:xfrm>
            <a:off x="1116000" y="6308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10800"/>
                </a:moveTo>
                <a:lnTo>
                  <a:pt x="33859" y="3794"/>
                </a:lnTo>
                <a:lnTo>
                  <a:pt x="33859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Этапы изображения ко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" descr="D:\документы\изо, труд\для конспекта городец\ГОРОДЕЦ\4e0f3ad0ece081c09d2938e83145117d.jpg"/>
          <p:cNvPicPr/>
          <p:nvPr/>
        </p:nvPicPr>
        <p:blipFill>
          <a:blip r:embed="rId3"/>
          <a:stretch/>
        </p:blipFill>
        <p:spPr>
          <a:xfrm>
            <a:off x="971640" y="888840"/>
            <a:ext cx="7988040" cy="5635800"/>
          </a:xfrm>
          <a:prstGeom prst="rect">
            <a:avLst/>
          </a:prstGeom>
          <a:ln w="0">
            <a:noFill/>
          </a:ln>
        </p:spPr>
      </p:pic>
      <p:sp>
        <p:nvSpPr>
          <p:cNvPr id="721" name="Управляющая кнопка: назад 6"/>
          <p:cNvSpPr/>
          <p:nvPr/>
        </p:nvSpPr>
        <p:spPr>
          <a:xfrm>
            <a:off x="1116000" y="6308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10800"/>
                </a:moveTo>
                <a:lnTo>
                  <a:pt x="33859" y="3794"/>
                </a:lnTo>
                <a:lnTo>
                  <a:pt x="33859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Разновидности композиц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3" name="Picture 2" descr="D:\документы\изо, труд\для конспекта городец\ГОРОДЕЦ\1257285436_15.gif"/>
          <p:cNvPicPr/>
          <p:nvPr/>
        </p:nvPicPr>
        <p:blipFill>
          <a:blip r:embed="rId1"/>
          <a:stretch/>
        </p:blipFill>
        <p:spPr>
          <a:xfrm>
            <a:off x="250920" y="1392120"/>
            <a:ext cx="4249800" cy="45579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D:\документы\изо, труд\для конспекта городец\ГОРОДЕЦ\1257285446_16.gif"/>
          <p:cNvPicPr/>
          <p:nvPr/>
        </p:nvPicPr>
        <p:blipFill>
          <a:blip r:embed="rId2"/>
          <a:stretch/>
        </p:blipFill>
        <p:spPr>
          <a:xfrm>
            <a:off x="4697280" y="1413000"/>
            <a:ext cx="4226040" cy="4537080"/>
          </a:xfrm>
          <a:prstGeom prst="rect">
            <a:avLst/>
          </a:prstGeom>
          <a:ln w="0">
            <a:noFill/>
          </a:ln>
        </p:spPr>
      </p:pic>
      <p:sp>
        <p:nvSpPr>
          <p:cNvPr id="725" name="Управляющая кнопка: далее 3"/>
          <p:cNvSpPr/>
          <p:nvPr/>
        </p:nvSpPr>
        <p:spPr>
          <a:xfrm>
            <a:off x="179280" y="6165720"/>
            <a:ext cx="505080" cy="28764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908" h="21600">
                <a:moveTo>
                  <a:pt x="0" y="0"/>
                </a:moveTo>
                <a:lnTo>
                  <a:pt x="37908" y="0"/>
                </a:lnTo>
                <a:lnTo>
                  <a:pt x="37908" y="21600"/>
                </a:lnTo>
                <a:lnTo>
                  <a:pt x="0" y="21600"/>
                </a:lnTo>
                <a:close/>
              </a:path>
              <a:path fill="lightenLess" w="37908" h="21600">
                <a:moveTo>
                  <a:pt x="0" y="0"/>
                </a:moveTo>
                <a:lnTo>
                  <a:pt x="37908" y="0"/>
                </a:lnTo>
                <a:lnTo>
                  <a:pt x="36508" y="1400"/>
                </a:lnTo>
                <a:lnTo>
                  <a:pt x="1400" y="1400"/>
                </a:lnTo>
                <a:close/>
              </a:path>
              <a:path fill="darken" w="37908" h="21600">
                <a:moveTo>
                  <a:pt x="37908" y="0"/>
                </a:moveTo>
                <a:lnTo>
                  <a:pt x="37908" y="21600"/>
                </a:lnTo>
                <a:lnTo>
                  <a:pt x="36508" y="20200"/>
                </a:lnTo>
                <a:lnTo>
                  <a:pt x="36508" y="1400"/>
                </a:lnTo>
                <a:close/>
              </a:path>
              <a:path fill="darkenLess" w="37908" h="21600">
                <a:moveTo>
                  <a:pt x="37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08" y="20200"/>
                </a:lnTo>
                <a:close/>
              </a:path>
              <a:path fill="lighten" w="37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08" h="21600">
                <a:moveTo>
                  <a:pt x="11948" y="3794"/>
                </a:moveTo>
                <a:lnTo>
                  <a:pt x="25960" y="10800"/>
                </a:lnTo>
                <a:lnTo>
                  <a:pt x="1194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1:01:50Z</dcterms:created>
  <dc:creator>Йохохоууу)))))))))</dc:creator>
  <dc:description/>
  <dc:language>en-US</dc:language>
  <cp:lastModifiedBy>студент</cp:lastModifiedBy>
  <dcterms:modified xsi:type="dcterms:W3CDTF">2011-06-15T06:01:05Z</dcterms:modified>
  <cp:revision>25</cp:revision>
  <dc:subject/>
  <dc:title>Городецкая роспись. Рисование кистью. Роспись прялки.</dc:title>
</cp:coreProperties>
</file>